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743-A2EA-463C-9634-7891D00A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CAA-2DA7-442B-8CA4-8C0508E1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E31-1328-423F-AB79-CC9C6358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832-B871-4FC6-8B19-27586995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923-6CF8-43BF-9568-E31F520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C9C-20B8-458F-9892-6A909773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CA5-72C7-44D0-AA5F-F0C6831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7C9-DD3F-471B-912C-91E99FF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B72-4740-4C69-BD9C-CF76E4F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925-F21C-4DD6-AC27-22C38BD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E84-13F2-4C48-848E-4BB2F9A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AC6-93AC-4151-A41D-E15B365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144-7D4F-4F09-88B9-19F92B914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1"/>
          <p:cNvGrpSpPr/>
          <p:nvPr/>
        </p:nvGrpSpPr>
        <p:grpSpPr>
          <a:xfrm>
            <a:off x="228600" y="1905120"/>
            <a:ext cx="6578640" cy="4423680"/>
            <a:chOff x="228600" y="1905120"/>
            <a:chExt cx="6578640" cy="4423680"/>
          </a:xfrm>
        </p:grpSpPr>
        <p:sp>
          <p:nvSpPr>
            <p:cNvPr id="42" name="Line 14"/>
            <p:cNvSpPr/>
            <p:nvPr/>
          </p:nvSpPr>
          <p:spPr>
            <a:xfrm>
              <a:off x="3430440" y="2813760"/>
              <a:ext cx="0" cy="66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 Box 15"/>
            <p:cNvSpPr/>
            <p:nvPr/>
          </p:nvSpPr>
          <p:spPr>
            <a:xfrm>
              <a:off x="2111760" y="1905120"/>
              <a:ext cx="2693160" cy="604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areer Clusters Framewor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6 Career Clust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 Career Path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nowledge &amp; Skills Stat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16"/>
            <p:cNvSpPr/>
            <p:nvPr/>
          </p:nvSpPr>
          <p:spPr>
            <a:xfrm>
              <a:off x="2155680" y="3539520"/>
              <a:ext cx="2610000" cy="93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gram of Stud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tegration of Career and Academic Educ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igor, Relevance, Relationship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amless Transition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 Box 17"/>
            <p:cNvSpPr/>
            <p:nvPr/>
          </p:nvSpPr>
          <p:spPr>
            <a:xfrm>
              <a:off x="2476440" y="5912280"/>
              <a:ext cx="1906560" cy="41652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ersona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 of Stud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8"/>
            <p:cNvSpPr/>
            <p:nvPr/>
          </p:nvSpPr>
          <p:spPr>
            <a:xfrm>
              <a:off x="290880" y="2930400"/>
              <a:ext cx="1738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Job Outlook/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dustry-Specific Requir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19"/>
            <p:cNvSpPr/>
            <p:nvPr/>
          </p:nvSpPr>
          <p:spPr>
            <a:xfrm>
              <a:off x="4970160" y="2930400"/>
              <a:ext cx="1412640" cy="459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duation/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ostsecondary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20"/>
            <p:cNvSpPr/>
            <p:nvPr/>
          </p:nvSpPr>
          <p:spPr>
            <a:xfrm>
              <a:off x="3461400" y="456264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23"/>
            <p:cNvSpPr/>
            <p:nvPr/>
          </p:nvSpPr>
          <p:spPr>
            <a:xfrm>
              <a:off x="912240" y="3510720"/>
              <a:ext cx="1243080" cy="65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4"/>
            <p:cNvSpPr/>
            <p:nvPr/>
          </p:nvSpPr>
          <p:spPr>
            <a:xfrm flipH="1">
              <a:off x="4766040" y="3455280"/>
              <a:ext cx="998640" cy="70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5"/>
            <p:cNvSpPr/>
            <p:nvPr/>
          </p:nvSpPr>
          <p:spPr>
            <a:xfrm>
              <a:off x="1860480" y="5282640"/>
              <a:ext cx="615600" cy="66888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6"/>
            <p:cNvSpPr/>
            <p:nvPr/>
          </p:nvSpPr>
          <p:spPr>
            <a:xfrm flipH="1">
              <a:off x="4382280" y="5282640"/>
              <a:ext cx="672120" cy="66888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7"/>
            <p:cNvSpPr/>
            <p:nvPr/>
          </p:nvSpPr>
          <p:spPr>
            <a:xfrm>
              <a:off x="974520" y="6113160"/>
              <a:ext cx="1491120" cy="13464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8"/>
            <p:cNvSpPr/>
            <p:nvPr/>
          </p:nvSpPr>
          <p:spPr>
            <a:xfrm flipH="1">
              <a:off x="4393440" y="6190200"/>
              <a:ext cx="931680" cy="13464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29"/>
            <p:cNvSpPr/>
            <p:nvPr/>
          </p:nvSpPr>
          <p:spPr>
            <a:xfrm>
              <a:off x="5264280" y="5729040"/>
              <a:ext cx="1542960" cy="33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Intra- and Co-Curricular Learning Experienc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30"/>
            <p:cNvSpPr/>
            <p:nvPr/>
          </p:nvSpPr>
          <p:spPr>
            <a:xfrm>
              <a:off x="228600" y="5650560"/>
              <a:ext cx="1232640" cy="459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Work-based Learning Opportunit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4383000" y="4937760"/>
              <a:ext cx="1345680" cy="215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Community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21"/>
            <p:cNvSpPr/>
            <p:nvPr/>
          </p:nvSpPr>
          <p:spPr>
            <a:xfrm>
              <a:off x="1299960" y="4937760"/>
              <a:ext cx="1344600" cy="33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Extra Curricular Activit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Rectangle 42"/>
          <p:cNvSpPr/>
          <p:nvPr/>
        </p:nvSpPr>
        <p:spPr>
          <a:xfrm>
            <a:off x="380880" y="4284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Programs of Study Fit within the Career Clusters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010280" y="1676520"/>
            <a:ext cx="2362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2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Key Element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Clus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Pa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Pathw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ig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lev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ran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Knowledge &amp; Skills Stat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gram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lan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cademic Requir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5"/>
          <p:cNvSpPr/>
          <p:nvPr/>
        </p:nvSpPr>
        <p:spPr>
          <a:xfrm>
            <a:off x="308520" y="658188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 with permission for educational purposes by the Missouri Center for Career Education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13:54Z</dcterms:created>
  <dc:creator>wittmaier</dc:creator>
  <dc:description/>
  <dc:language>en-US</dc:language>
  <cp:lastModifiedBy>rswills</cp:lastModifiedBy>
  <dcterms:modified xsi:type="dcterms:W3CDTF">2008-09-08T21:00:28Z</dcterms:modified>
  <cp:revision>2</cp:revision>
  <dc:subject/>
  <dc:title>Slide 1</dc:title>
</cp:coreProperties>
</file>